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585-FFE4-4212-9215-38DF6CBEE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this matrix:  no differentiation on level of integration (have that now, but not when we were doing surveys – assumption by all = within class, with peers) OR level of assistance/independence (surveyed but not linked to matr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428A-4BB7-4FF1-A911-E400FAC9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ar prior and into new school year disruptive incidents at least weekly (for 2 daily).   Decrease from start to end of schoo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3DE8-7BC1-4E3D-A3C9-B34DD4017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CCF5-5B88-42EE-97F2-2BCE2611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0D7-331F-467D-A0A9-39CFB345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7F91-958D-4E10-9B22-E208C737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A0-F309-47BE-A6C3-5192B35D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F469-F640-41F5-BEA3-02E7FA45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A56-2AE3-42DA-B43D-50B874A5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0777-EEC4-4592-97D0-895C72CE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D1F-96A2-4985-A9BB-A580C9B6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6C05-58FF-49C5-BFB6-D2509012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1CB7-CC1D-45FC-930F-5EB7B405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B56F-5986-42D3-8647-CD2CA67E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E4A-5C0C-4208-BE18-F9D863D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9E22-14C1-4262-A190-95D5BE43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4E70-4CCC-488F-8037-047D4EE3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0B33-C0F6-41DD-AE5A-D6E0754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E1A6-173C-45FA-A546-F08A233E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7226-0777-4F84-8391-D22B0339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521BD-ACAC-4AA5-8615-4B6B4DEC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0232-1043-4C32-803F-E282EEA0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30AA-6721-4105-9887-301CF62D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62D7-E20E-4B6B-B3C2-0914476C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14A26-D15F-4AC9-BAC7-5A1905B5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0CF-5AA5-45FA-9CFF-3C90FCA3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6069-043D-45EE-AD31-A79D1D24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72A8-6C37-4E66-AE1D-6D20410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BBE2-E7E4-4D63-8E76-1F9F1A4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FAF2-EA20-44F2-8592-A7151AA8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13CE-1B50-4886-9661-2761A854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E73D-BD2D-446E-923A-90EA9C18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3C74-3142-46ED-985B-4CAAAC9A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15014-EF8C-4D8C-8D83-4BC39F23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18D55-0694-4C82-9A3C-1093284D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9D45B-E33C-4A72-9FFA-AEFFA02A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762-C10A-4752-AEDB-7D3FB320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6B7EF-3B99-4729-AA13-F089C58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4085-668B-4C19-BB22-B94B2AA3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D043-9A0A-4713-9893-6856881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0FE3-1A61-454A-BBF6-D5FC2F8C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48B7B-6C55-4E2D-91A3-A82E7D2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D8A3-186B-44BA-9001-0105592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6ABD0-1DBB-4567-A4C2-F2401A8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49E7-B608-4985-9A2C-C4D8A451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75B6-DF72-48AF-A651-405AD0C6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CDC-C922-4611-956F-78054DDF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77C-509D-4628-8ECD-736CA2C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08D4-E537-4638-85AA-5064393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BBDB-3E07-45EB-836D-C9721DB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9AC-2113-422E-9576-A96E3B74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7582-37C8-4FEB-9B8F-D365374491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B0CA-1C19-4562-AA30-57D733845B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2160-D2C0-43DF-A4D2-E0C0E08AF8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AEF4-FE63-40FD-B4E7-7792027DBD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10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0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7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9.wmf"/><Relationship Id="rId40" Type="http://schemas.openxmlformats.org/officeDocument/2006/relationships/image" Target="../media/image7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0" y="1285920"/>
            <a:ext cx="4824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 S.I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10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2857680" y="2500200"/>
            <a:ext cx="79200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8616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no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val 21" descr=""/>
          <p:cNvPicPr/>
          <p:nvPr/>
        </p:nvPicPr>
        <p:blipFill>
          <a:blip r:embed="rId2"/>
          <a:stretch/>
        </p:blipFill>
        <p:spPr>
          <a:xfrm>
            <a:off x="3486240" y="4492800"/>
            <a:ext cx="2384280" cy="130464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557208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7"/>
          <p:cNvCxnSpPr>
            <a:endCxn id="214" idx="7"/>
          </p:cNvCxnSpPr>
          <p:nvPr/>
        </p:nvCxnSpPr>
        <p:spPr>
          <a:xfrm flipH="1">
            <a:off x="3533760" y="1999080"/>
            <a:ext cx="1114920" cy="61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19"/>
          <p:cNvCxnSpPr>
            <a:stCxn id="213" idx="2"/>
            <a:endCxn id="215" idx="0"/>
          </p:cNvCxnSpPr>
          <p:nvPr/>
        </p:nvCxnSpPr>
        <p:spPr>
          <a:xfrm flipH="1">
            <a:off x="4682520" y="2006640"/>
            <a:ext cx="15840" cy="49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1"/>
          <p:cNvCxnSpPr>
            <a:stCxn id="213" idx="2"/>
            <a:endCxn id="217" idx="1"/>
          </p:cNvCxnSpPr>
          <p:nvPr/>
        </p:nvCxnSpPr>
        <p:spPr>
          <a:xfrm>
            <a:off x="4698000" y="2006640"/>
            <a:ext cx="9903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Down Arrow 26"/>
          <p:cNvSpPr/>
          <p:nvPr/>
        </p:nvSpPr>
        <p:spPr>
          <a:xfrm>
            <a:off x="4429080" y="36432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214200" y="339120"/>
            <a:ext cx="87156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, Gr.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vere expressive language disorder (incomprehensible); Severely disruptive behaviour.  Regular classroom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day in classroom (76-95% of day) - no change from prior year.  Moved from being engaged some of the time (up to 50%) in 2007-08, to being engaged a lot of the time (up to 80%) in 2008-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ive behaviours were frequent and severe on a weekly basis in 2007-08, and decreased by about 25% in 2008-09 but are still a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 increased his level of participation from 2007-08 through 2008-09, from Active to Competitive in math; from Involved to Active in science; and remained Active in language 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eeded much less direct assistance to understand instructions in 2008-09 (25% of time), down from up-to-75% of the time in 2007-08.  He continued to need direct assistance to complete tasks about 75% of the time in 2008-09 as in 2007-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 there were frequent opportunities to communicate and he was successful with these about 10% of the time. In 2008-09 there were almost continuous opportunities available to communicate and he was frequently (up to 80% of the time) successful.  For social communication, he made more frequent attempts in 2008-09 compared to in 2007-08, and his need for an adult “interpreter” decreased over the course of the 2008-09 schoo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more successful socializing experiences with peers in 2008-09 but had always enjoyed and attempted to socialize with many peers in years p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"J. 's ability to follow and engage in the grade 2 math program improved markedly this year".  IEP page for math discontin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ssed Nov. 2008 (Pre) and Oct. 2009 (Post). 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rovements in Sentence Structure (AE 6.0 yrs to AE 8.9 yrs); Formulated Sentences (AE 5.3 yrs to AE 6.2 yrs) as measured by CELF-4.  Overall receptive skills tested at average level (from low average); Overall expressive skills continue to be delayed but gains noted in ability to formulate sentences (i.e.,  Using picture cue, make a sentence using the word longest:  Nov. 2008 “Longest the dog is brown”  to  Oct. 2009 “The middle dog is the longest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500040" y="1345680"/>
            <a:ext cx="8429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., Gr.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al Disability; Physical Challenges; Severe Expressive Language Difficulties; Quiet – not disruptive.  Self-contained classroom placement for students with Developmental Disabilities and/or Autis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his day in the classroom – no change from prio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lmost all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 completely individualized program to working at an Active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most all of the time in 2007-08.  In 2008-09 he needed assistance a lot of the time to understand instructions/tasks (75%) and about 50% of the time to complete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Few interactions with classmates so few opportunities to communicate were present, and when those opportunities were present, attempts were almost always unsuccessful.  He socialized rarely with peers.  In 2008-09 there were frequent communication opportunities present (80-100% of the day) and some of his attempts to communicate were successful (up to 50%).  He socialized with many peers including peers from “regular” classro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R. wrote a father's day poem using clicker 5 with no assistance and presented it to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500040" y="571680"/>
            <a:ext cx="8286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, Gr. 3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ism Spectrum Disorder; Minimally Verbal; Disengaged; Regula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some parts of his day in the classroom in 2007-08 but most of the day in the classroom in 2008-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 lot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n individualized alternative program or working at an Involved level to working at Active or Competitive levels in all subject ar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l of the time in 2007-08 – very prompt/EA dependent.  In 2008-09 he needed assistance some of the time to understand instructions/tasks (up to 50%) and needed assistance to complete tasks about 75% of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C interacted/socialized rarely with classmates so only some opportunities to communicate were present.  When those opportunities were present, attempts were almost always unsuccessful.  In 2008-09 there were frequent communication opportunities present (80-100% of the day) and almost all of his attempts to communicate were successful.  By the end of 2008-09 school year he was socializing regularly with one or two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C’s integration and participation in regular classroom activities with peers (he had spent a lot of his prior years in school in alternate activities, alternate locations), and less dependence on one-to-one assistance/prompts. He participated as a member of the class in shared reading and completed math work at level commensurate with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7168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Collection Poin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st term of 2007-2008 school year   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nd of year 2008-2009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ech-Languag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EPs and Repo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views (teachers and principals;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928880" y="928800"/>
            <a:ext cx="5572080" cy="192888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928880" y="3143160"/>
            <a:ext cx="5572080" cy="242892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4"/>
          <p:cNvSpPr/>
          <p:nvPr/>
        </p:nvSpPr>
        <p:spPr>
          <a:xfrm>
            <a:off x="4429080" y="2500200"/>
            <a:ext cx="341280" cy="7635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320" y="257184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289440" y="34290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18600" y="4286160"/>
            <a:ext cx="27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1072440" y="50720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Time/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3647520" y="5429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934600" y="54291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500720" y="2000160"/>
            <a:ext cx="571320" cy="3286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286680" y="3929040"/>
            <a:ext cx="571320" cy="135720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6858000" y="2357280"/>
            <a:ext cx="571680" cy="292896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073160" y="171468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Almost Alway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96880" y="2571840"/>
            <a:ext cx="24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84640" y="3429000"/>
            <a:ext cx="25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 of tim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1001880" y="428616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Littl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004760" y="507204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Assistanc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2992680" y="53578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Intepret/Understand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258960" y="535788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Complet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0720" y="3214800"/>
            <a:ext cx="571320" cy="20714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6715080" y="2143080"/>
            <a:ext cx="571680" cy="3143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86760" y="3000240"/>
            <a:ext cx="571320" cy="228600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743040" y="257184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731160" y="3429000"/>
            <a:ext cx="24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803160" y="42861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586520" y="507204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343080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pportunities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578808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tempts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3929040" y="2714760"/>
            <a:ext cx="571680" cy="257148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4500720" y="2214720"/>
            <a:ext cx="571320" cy="307152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6286680" y="4429080"/>
            <a:ext cx="571320" cy="857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6858000" y="3143160"/>
            <a:ext cx="571680" cy="2143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0" name="Isosceles Triangle 6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sosceles Triangle 8"/>
          <p:cNvSpPr/>
          <p:nvPr/>
        </p:nvSpPr>
        <p:spPr>
          <a:xfrm>
            <a:off x="457200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9"/>
          <p:cNvSpPr/>
          <p:nvPr/>
        </p:nvSpPr>
        <p:spPr>
          <a:xfrm>
            <a:off x="521496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10"/>
          <p:cNvSpPr/>
          <p:nvPr/>
        </p:nvSpPr>
        <p:spPr>
          <a:xfrm>
            <a:off x="4572000" y="328608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sosceles Triangle 11"/>
          <p:cNvSpPr/>
          <p:nvPr/>
        </p:nvSpPr>
        <p:spPr>
          <a:xfrm>
            <a:off x="4929120" y="46432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2"/>
          <p:cNvSpPr/>
          <p:nvPr/>
        </p:nvSpPr>
        <p:spPr>
          <a:xfrm>
            <a:off x="5286240" y="3286080"/>
            <a:ext cx="381240" cy="357120"/>
          </a:xfrm>
          <a:prstGeom prst="triangle">
            <a:avLst>
              <a:gd name="adj" fmla="val 50000"/>
            </a:avLst>
          </a:prstGeom>
          <a:solidFill>
            <a:srgbClr val="20c9f8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sosceles Triangle 13"/>
          <p:cNvSpPr/>
          <p:nvPr/>
        </p:nvSpPr>
        <p:spPr>
          <a:xfrm>
            <a:off x="5786280" y="257184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059 0.43171 E">
                                      <p:cBhvr>
                                        <p:cTn id="18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331 L 0.21892 0.35014 E">
                                      <p:cBhvr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3257 0.24421 E">
                                      <p:cBhvr>
                                        <p:cTn id="19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84 0.24421 E">
                                      <p:cBhvr>
                                        <p:cTn id="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1829 L 0.20659 0.31504 E">
                                      <p:cBhvr>
                                        <p:cTn id="201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20035 0.21551 E">
                                      <p:cBhvr>
                                        <p:cTn id="20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7049 0.00348 E">
                                      <p:cBhvr>
                                        <p:cTn id="20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3432E-007 L 0.1684 0.01573 E">
                                      <p:cBhvr>
                                        <p:cTn id="21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9" name="Isosceles Triangle 5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6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7"/>
          <p:cNvSpPr/>
          <p:nvPr/>
        </p:nvSpPr>
        <p:spPr>
          <a:xfrm>
            <a:off x="442908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sosceles Triangle 8"/>
          <p:cNvSpPr/>
          <p:nvPr/>
        </p:nvSpPr>
        <p:spPr>
          <a:xfrm>
            <a:off x="4929120" y="535788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sosceles Triangle 9"/>
          <p:cNvSpPr/>
          <p:nvPr/>
        </p:nvSpPr>
        <p:spPr>
          <a:xfrm>
            <a:off x="521496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sosceles Triangle 10"/>
          <p:cNvSpPr/>
          <p:nvPr/>
        </p:nvSpPr>
        <p:spPr>
          <a:xfrm>
            <a:off x="4929120" y="45720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sosceles Triangle 11"/>
          <p:cNvSpPr/>
          <p:nvPr/>
        </p:nvSpPr>
        <p:spPr>
          <a:xfrm>
            <a:off x="442908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sosceles Triangle 12"/>
          <p:cNvSpPr/>
          <p:nvPr/>
        </p:nvSpPr>
        <p:spPr>
          <a:xfrm>
            <a:off x="521496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84 0.43171 E">
                                      <p:cBhvr>
                                        <p:cTn id="21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125 L 0.22673 0.35023 E">
                                      <p:cBhvr>
                                        <p:cTn id="21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32 L 0.34392 0.25741 E">
                                      <p:cBhvr>
                                        <p:cTn id="22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255 L 0.31388 0.25718 E">
                                      <p:cBhvr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717 L 0.23368 0.23773 E">
                                      <p:cBhvr>
                                        <p:cTn id="22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17638 0.12061 E">
                                      <p:cBhvr>
                                        <p:cTn id="23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19966 0.00371 E">
                                      <p:cBhvr>
                                        <p:cTn id="23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25503 0.00602 E">
                                      <p:cBhvr>
                                        <p:cTn id="23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7"/>
          <p:cNvSpPr/>
          <p:nvPr/>
        </p:nvSpPr>
        <p:spPr>
          <a:xfrm>
            <a:off x="7286760" y="2428920"/>
            <a:ext cx="928440" cy="2428920"/>
          </a:xfrm>
          <a:prstGeom prst="rect">
            <a:avLst/>
          </a:prstGeom>
          <a:noFill/>
          <a:ln w="324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22016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286160" y="2428920"/>
            <a:ext cx="928800" cy="2428920"/>
          </a:xfrm>
          <a:prstGeom prst="rect">
            <a:avLst/>
          </a:prstGeom>
          <a:noFill/>
          <a:ln w="3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57200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3"/>
          <p:cNvSpPr/>
          <p:nvPr/>
        </p:nvSpPr>
        <p:spPr>
          <a:xfrm>
            <a:off x="421920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7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2714760" y="2428920"/>
            <a:ext cx="928440" cy="2428920"/>
          </a:xfrm>
          <a:prstGeom prst="rect">
            <a:avLst/>
          </a:prstGeom>
          <a:noFill/>
          <a:ln w="3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214280" y="2428920"/>
            <a:ext cx="928800" cy="2428920"/>
          </a:xfrm>
          <a:prstGeom prst="rect">
            <a:avLst/>
          </a:prstGeom>
          <a:noFill/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26474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5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7"/>
          <p:cNvSpPr/>
          <p:nvPr/>
        </p:nvSpPr>
        <p:spPr>
          <a:xfrm>
            <a:off x="114732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286760" y="4786200"/>
            <a:ext cx="914400" cy="7164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5786280" y="4786200"/>
            <a:ext cx="914400" cy="7164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286160" y="4143240"/>
            <a:ext cx="914400" cy="71460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2714760" y="3571920"/>
            <a:ext cx="914400" cy="1285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214280" y="3143160"/>
            <a:ext cx="914400" cy="171468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214280" y="2428920"/>
            <a:ext cx="914400" cy="242892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2428920"/>
            <a:ext cx="914400" cy="242892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14760" y="2428920"/>
            <a:ext cx="914400" cy="2428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786280" y="2428920"/>
            <a:ext cx="914400" cy="242892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286160" y="2428920"/>
            <a:ext cx="914400" cy="242892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1785960" y="8571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ruptive Incidents:  Weekly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2441880" y="157176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crease Over Course of the 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928800" y="4929120"/>
            <a:ext cx="735804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6"/>
          <p:cNvSpPr/>
          <p:nvPr/>
        </p:nvSpPr>
        <p:spPr>
          <a:xfrm>
            <a:off x="5786280" y="2428920"/>
            <a:ext cx="928800" cy="2428920"/>
          </a:xfrm>
          <a:prstGeom prst="rect">
            <a:avLst/>
          </a:prstGeom>
          <a:noFill/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54"/>
          <p:cNvGrpSpPr/>
          <p:nvPr/>
        </p:nvGrpSpPr>
        <p:grpSpPr>
          <a:xfrm>
            <a:off x="6286680" y="1428840"/>
            <a:ext cx="1071000" cy="928080"/>
            <a:chOff x="6286680" y="1428840"/>
            <a:chExt cx="1071000" cy="928080"/>
          </a:xfrm>
        </p:grpSpPr>
        <p:pic>
          <p:nvPicPr>
            <p:cNvPr id="331" name="Picture 55" descr="MCj04238600000[1]"/>
            <p:cNvPicPr/>
            <p:nvPr/>
          </p:nvPicPr>
          <p:blipFill>
            <a:blip r:embed="rId2"/>
            <a:stretch/>
          </p:blipFill>
          <p:spPr>
            <a:xfrm>
              <a:off x="6286680" y="1494720"/>
              <a:ext cx="77256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6" descr="MCj04231690000[1]"/>
            <p:cNvPicPr/>
            <p:nvPr/>
          </p:nvPicPr>
          <p:blipFill>
            <a:blip r:embed="rId3"/>
            <a:stretch/>
          </p:blipFill>
          <p:spPr>
            <a:xfrm flipH="1">
              <a:off x="7009920" y="1694160"/>
              <a:ext cx="3477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7" descr="MCj04231690000[1]"/>
            <p:cNvPicPr/>
            <p:nvPr/>
          </p:nvPicPr>
          <p:blipFill>
            <a:blip r:embed="rId4"/>
            <a:stretch/>
          </p:blipFill>
          <p:spPr>
            <a:xfrm flipH="1">
              <a:off x="6878160" y="1428840"/>
              <a:ext cx="347760" cy="35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81" descr="MCj04244800000[1]"/>
          <p:cNvPicPr/>
          <p:nvPr/>
        </p:nvPicPr>
        <p:blipFill>
          <a:blip r:embed="rId5"/>
          <a:stretch/>
        </p:blipFill>
        <p:spPr>
          <a:xfrm>
            <a:off x="1571760" y="2214720"/>
            <a:ext cx="757080" cy="798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MCj04244800000[1]"/>
          <p:cNvPicPr/>
          <p:nvPr/>
        </p:nvPicPr>
        <p:blipFill>
          <a:blip r:embed="rId6"/>
          <a:stretch/>
        </p:blipFill>
        <p:spPr>
          <a:xfrm>
            <a:off x="2714760" y="1000080"/>
            <a:ext cx="785520" cy="8463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2"/>
          <p:cNvGrpSpPr/>
          <p:nvPr/>
        </p:nvGrpSpPr>
        <p:grpSpPr>
          <a:xfrm>
            <a:off x="6286680" y="1071720"/>
            <a:ext cx="1532520" cy="1388880"/>
            <a:chOff x="6286680" y="1071720"/>
            <a:chExt cx="1532520" cy="1388880"/>
          </a:xfrm>
        </p:grpSpPr>
        <p:pic>
          <p:nvPicPr>
            <p:cNvPr id="337" name="Picture 23" descr="MCj04244660000[1]"/>
            <p:cNvPicPr/>
            <p:nvPr/>
          </p:nvPicPr>
          <p:blipFill>
            <a:blip r:embed="rId7"/>
            <a:stretch/>
          </p:blipFill>
          <p:spPr>
            <a:xfrm>
              <a:off x="6286680" y="150336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8" descr="MCj04231690000[1]"/>
            <p:cNvPicPr/>
            <p:nvPr/>
          </p:nvPicPr>
          <p:blipFill>
            <a:blip r:embed="rId8"/>
            <a:stretch/>
          </p:blipFill>
          <p:spPr>
            <a:xfrm flipH="1">
              <a:off x="6862320" y="128736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9" descr="MCj04231690000[1]"/>
            <p:cNvPicPr/>
            <p:nvPr/>
          </p:nvPicPr>
          <p:blipFill>
            <a:blip r:embed="rId9"/>
            <a:stretch/>
          </p:blipFill>
          <p:spPr>
            <a:xfrm flipH="1">
              <a:off x="7222680" y="171936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0" descr="MCj04231690000[1]"/>
            <p:cNvPicPr/>
            <p:nvPr/>
          </p:nvPicPr>
          <p:blipFill>
            <a:blip r:embed="rId10"/>
            <a:stretch/>
          </p:blipFill>
          <p:spPr>
            <a:xfrm flipH="1">
              <a:off x="7151400" y="14320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1" descr="MCj04231690000[1]"/>
            <p:cNvPicPr/>
            <p:nvPr/>
          </p:nvPicPr>
          <p:blipFill>
            <a:blip r:embed="rId11"/>
            <a:stretch/>
          </p:blipFill>
          <p:spPr>
            <a:xfrm flipH="1">
              <a:off x="7151400" y="1071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2" descr="MCj04231690000[1]"/>
            <p:cNvPicPr/>
            <p:nvPr/>
          </p:nvPicPr>
          <p:blipFill>
            <a:blip r:embed="rId12"/>
            <a:stretch/>
          </p:blipFill>
          <p:spPr>
            <a:xfrm flipH="1">
              <a:off x="7294320" y="2079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3" descr="MCj04231690000[1]"/>
            <p:cNvPicPr/>
            <p:nvPr/>
          </p:nvPicPr>
          <p:blipFill>
            <a:blip r:embed="rId13"/>
            <a:stretch/>
          </p:blipFill>
          <p:spPr>
            <a:xfrm flipH="1">
              <a:off x="7438680" y="150336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6"/>
          <p:cNvGrpSpPr/>
          <p:nvPr/>
        </p:nvGrpSpPr>
        <p:grpSpPr>
          <a:xfrm>
            <a:off x="7072200" y="3357720"/>
            <a:ext cx="1078920" cy="865080"/>
            <a:chOff x="7072200" y="3357720"/>
            <a:chExt cx="1078920" cy="865080"/>
          </a:xfrm>
        </p:grpSpPr>
        <p:pic>
          <p:nvPicPr>
            <p:cNvPr id="345" name="Picture 47" descr="MCj04238600000[1]"/>
            <p:cNvPicPr/>
            <p:nvPr/>
          </p:nvPicPr>
          <p:blipFill>
            <a:blip r:embed="rId14"/>
            <a:stretch/>
          </p:blipFill>
          <p:spPr>
            <a:xfrm>
              <a:off x="7072200" y="3419280"/>
              <a:ext cx="77868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8" descr="MCj04231690000[1]"/>
            <p:cNvPicPr/>
            <p:nvPr/>
          </p:nvPicPr>
          <p:blipFill>
            <a:blip r:embed="rId15"/>
            <a:stretch/>
          </p:blipFill>
          <p:spPr>
            <a:xfrm flipH="1">
              <a:off x="780084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9" descr="MCj04231690000[1]"/>
            <p:cNvPicPr/>
            <p:nvPr/>
          </p:nvPicPr>
          <p:blipFill>
            <a:blip r:embed="rId16"/>
            <a:stretch/>
          </p:blipFill>
          <p:spPr>
            <a:xfrm flipH="1">
              <a:off x="766800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63"/>
          <p:cNvGrpSpPr/>
          <p:nvPr/>
        </p:nvGrpSpPr>
        <p:grpSpPr>
          <a:xfrm>
            <a:off x="1571760" y="1714680"/>
            <a:ext cx="1532520" cy="1428120"/>
            <a:chOff x="1571760" y="1714680"/>
            <a:chExt cx="1532520" cy="1428120"/>
          </a:xfrm>
        </p:grpSpPr>
        <p:pic>
          <p:nvPicPr>
            <p:cNvPr id="349" name="Picture 64" descr="MCj04244660000[1]"/>
            <p:cNvPicPr/>
            <p:nvPr/>
          </p:nvPicPr>
          <p:blipFill>
            <a:blip r:embed="rId17"/>
            <a:stretch/>
          </p:blipFill>
          <p:spPr>
            <a:xfrm>
              <a:off x="1571760" y="2158560"/>
              <a:ext cx="100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5" descr="MCj04231690000[1]"/>
            <p:cNvPicPr/>
            <p:nvPr/>
          </p:nvPicPr>
          <p:blipFill>
            <a:blip r:embed="rId18"/>
            <a:stretch/>
          </p:blipFill>
          <p:spPr>
            <a:xfrm flipH="1">
              <a:off x="2147400" y="1936440"/>
              <a:ext cx="3805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6" descr="MCj04231690000[1]"/>
            <p:cNvPicPr/>
            <p:nvPr/>
          </p:nvPicPr>
          <p:blipFill>
            <a:blip r:embed="rId19"/>
            <a:stretch/>
          </p:blipFill>
          <p:spPr>
            <a:xfrm flipH="1">
              <a:off x="2507760" y="2380680"/>
              <a:ext cx="38052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67" descr="MCj04231690000[1]"/>
            <p:cNvPicPr/>
            <p:nvPr/>
          </p:nvPicPr>
          <p:blipFill>
            <a:blip r:embed="rId20"/>
            <a:stretch/>
          </p:blipFill>
          <p:spPr>
            <a:xfrm flipH="1">
              <a:off x="2436480" y="2085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68" descr="MCj04231690000[1]"/>
            <p:cNvPicPr/>
            <p:nvPr/>
          </p:nvPicPr>
          <p:blipFill>
            <a:blip r:embed="rId21"/>
            <a:stretch/>
          </p:blipFill>
          <p:spPr>
            <a:xfrm flipH="1">
              <a:off x="2436480" y="171468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9" descr="MCj04231690000[1]"/>
            <p:cNvPicPr/>
            <p:nvPr/>
          </p:nvPicPr>
          <p:blipFill>
            <a:blip r:embed="rId22"/>
            <a:stretch/>
          </p:blipFill>
          <p:spPr>
            <a:xfrm flipH="1">
              <a:off x="2579400" y="2751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0" descr="MCj04231690000[1]"/>
            <p:cNvPicPr/>
            <p:nvPr/>
          </p:nvPicPr>
          <p:blipFill>
            <a:blip r:embed="rId23"/>
            <a:stretch/>
          </p:blipFill>
          <p:spPr>
            <a:xfrm flipH="1">
              <a:off x="2723760" y="2158560"/>
              <a:ext cx="3805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71"/>
          <p:cNvGrpSpPr/>
          <p:nvPr/>
        </p:nvGrpSpPr>
        <p:grpSpPr>
          <a:xfrm>
            <a:off x="2714760" y="571680"/>
            <a:ext cx="1532520" cy="1388880"/>
            <a:chOff x="2714760" y="571680"/>
            <a:chExt cx="1532520" cy="1388880"/>
          </a:xfrm>
        </p:grpSpPr>
        <p:pic>
          <p:nvPicPr>
            <p:cNvPr id="357" name="Picture 72" descr="MCj04244660000[1]"/>
            <p:cNvPicPr/>
            <p:nvPr/>
          </p:nvPicPr>
          <p:blipFill>
            <a:blip r:embed="rId24"/>
            <a:stretch/>
          </p:blipFill>
          <p:spPr>
            <a:xfrm>
              <a:off x="2714760" y="100332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73" descr="MCj04231690000[1]"/>
            <p:cNvPicPr/>
            <p:nvPr/>
          </p:nvPicPr>
          <p:blipFill>
            <a:blip r:embed="rId25"/>
            <a:stretch/>
          </p:blipFill>
          <p:spPr>
            <a:xfrm flipH="1">
              <a:off x="3290400" y="78732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4" descr="MCj04231690000[1]"/>
            <p:cNvPicPr/>
            <p:nvPr/>
          </p:nvPicPr>
          <p:blipFill>
            <a:blip r:embed="rId26"/>
            <a:stretch/>
          </p:blipFill>
          <p:spPr>
            <a:xfrm flipH="1">
              <a:off x="3650760" y="121932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5" descr="MCj04231690000[1]"/>
            <p:cNvPicPr/>
            <p:nvPr/>
          </p:nvPicPr>
          <p:blipFill>
            <a:blip r:embed="rId27"/>
            <a:stretch/>
          </p:blipFill>
          <p:spPr>
            <a:xfrm flipH="1">
              <a:off x="3579480" y="9320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6" descr="MCj04231690000[1]"/>
            <p:cNvPicPr/>
            <p:nvPr/>
          </p:nvPicPr>
          <p:blipFill>
            <a:blip r:embed="rId28"/>
            <a:stretch/>
          </p:blipFill>
          <p:spPr>
            <a:xfrm flipH="1">
              <a:off x="3579480" y="571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77" descr="MCj04231690000[1]"/>
            <p:cNvPicPr/>
            <p:nvPr/>
          </p:nvPicPr>
          <p:blipFill>
            <a:blip r:embed="rId29"/>
            <a:stretch/>
          </p:blipFill>
          <p:spPr>
            <a:xfrm flipH="1">
              <a:off x="3722400" y="1579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8" descr="MCj04231690000[1]"/>
            <p:cNvPicPr/>
            <p:nvPr/>
          </p:nvPicPr>
          <p:blipFill>
            <a:blip r:embed="rId30"/>
            <a:stretch/>
          </p:blipFill>
          <p:spPr>
            <a:xfrm flipH="1">
              <a:off x="3866760" y="100332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4" name="Picture 79" descr="MCj04244800000[1]"/>
          <p:cNvPicPr/>
          <p:nvPr/>
        </p:nvPicPr>
        <p:blipFill>
          <a:blip r:embed="rId31"/>
          <a:stretch/>
        </p:blipFill>
        <p:spPr>
          <a:xfrm>
            <a:off x="2071800" y="4857840"/>
            <a:ext cx="817560" cy="86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0" descr="MCj04244800000[1]"/>
          <p:cNvPicPr/>
          <p:nvPr/>
        </p:nvPicPr>
        <p:blipFill>
          <a:blip r:embed="rId32"/>
          <a:stretch/>
        </p:blipFill>
        <p:spPr>
          <a:xfrm rot="474600">
            <a:off x="2768760" y="3551400"/>
            <a:ext cx="798480" cy="8492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5"/>
          <p:cNvSpPr/>
          <p:nvPr/>
        </p:nvSpPr>
        <p:spPr>
          <a:xfrm>
            <a:off x="621504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7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sosceles Triangle 50"/>
          <p:cNvSpPr/>
          <p:nvPr/>
        </p:nvSpPr>
        <p:spPr>
          <a:xfrm rot="577200">
            <a:off x="6456240" y="1254240"/>
            <a:ext cx="509760" cy="37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sosceles Triangle 52"/>
          <p:cNvSpPr/>
          <p:nvPr/>
        </p:nvSpPr>
        <p:spPr>
          <a:xfrm rot="20714400">
            <a:off x="2754360" y="771120"/>
            <a:ext cx="503280" cy="3794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sosceles Triangle 53"/>
          <p:cNvSpPr/>
          <p:nvPr/>
        </p:nvSpPr>
        <p:spPr>
          <a:xfrm rot="20734800">
            <a:off x="1607760" y="19141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sosceles Triangle 55"/>
          <p:cNvSpPr/>
          <p:nvPr/>
        </p:nvSpPr>
        <p:spPr>
          <a:xfrm rot="20602800">
            <a:off x="7041960" y="32065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0"/>
          <p:cNvSpPr/>
          <p:nvPr/>
        </p:nvSpPr>
        <p:spPr>
          <a:xfrm>
            <a:off x="6224040" y="5572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1"/>
          <p:cNvSpPr/>
          <p:nvPr/>
        </p:nvSpPr>
        <p:spPr>
          <a:xfrm>
            <a:off x="5021280" y="500076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izing with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6"/>
          <p:cNvGrpSpPr/>
          <p:nvPr/>
        </p:nvGrpSpPr>
        <p:grpSpPr>
          <a:xfrm>
            <a:off x="5500800" y="3357720"/>
            <a:ext cx="1078560" cy="865080"/>
            <a:chOff x="5500800" y="3357720"/>
            <a:chExt cx="1078560" cy="865080"/>
          </a:xfrm>
        </p:grpSpPr>
        <p:pic>
          <p:nvPicPr>
            <p:cNvPr id="374" name="Picture 47" descr="MCj04238600000[1]"/>
            <p:cNvPicPr/>
            <p:nvPr/>
          </p:nvPicPr>
          <p:blipFill>
            <a:blip r:embed="rId33"/>
            <a:stretch/>
          </p:blipFill>
          <p:spPr>
            <a:xfrm>
              <a:off x="5500800" y="3419280"/>
              <a:ext cx="77832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8" descr="MCj04231690000[1]"/>
            <p:cNvPicPr/>
            <p:nvPr/>
          </p:nvPicPr>
          <p:blipFill>
            <a:blip r:embed="rId34"/>
            <a:stretch/>
          </p:blipFill>
          <p:spPr>
            <a:xfrm flipH="1">
              <a:off x="622908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9" descr="MCj04231690000[1]"/>
            <p:cNvPicPr/>
            <p:nvPr/>
          </p:nvPicPr>
          <p:blipFill>
            <a:blip r:embed="rId35"/>
            <a:stretch/>
          </p:blipFill>
          <p:spPr>
            <a:xfrm flipH="1">
              <a:off x="609624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Isosceles Triangle 62"/>
          <p:cNvSpPr/>
          <p:nvPr/>
        </p:nvSpPr>
        <p:spPr>
          <a:xfrm rot="20851800">
            <a:off x="5541480" y="3206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2714760" y="3357720"/>
            <a:ext cx="1172880" cy="1005840"/>
            <a:chOff x="2714760" y="3357720"/>
            <a:chExt cx="1172880" cy="1005840"/>
          </a:xfrm>
        </p:grpSpPr>
        <p:pic>
          <p:nvPicPr>
            <p:cNvPr id="379" name="Picture 51" descr="MCj04238600000[1]"/>
            <p:cNvPicPr/>
            <p:nvPr/>
          </p:nvPicPr>
          <p:blipFill>
            <a:blip r:embed="rId36"/>
            <a:stretch/>
          </p:blipFill>
          <p:spPr>
            <a:xfrm>
              <a:off x="2714760" y="3429000"/>
              <a:ext cx="84600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2" descr="MCj04231690000[1]"/>
            <p:cNvPicPr/>
            <p:nvPr/>
          </p:nvPicPr>
          <p:blipFill>
            <a:blip r:embed="rId37"/>
            <a:stretch/>
          </p:blipFill>
          <p:spPr>
            <a:xfrm flipH="1">
              <a:off x="3506760" y="3645000"/>
              <a:ext cx="3808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3" descr="MCj04231690000[1]"/>
            <p:cNvPicPr/>
            <p:nvPr/>
          </p:nvPicPr>
          <p:blipFill>
            <a:blip r:embed="rId38"/>
            <a:stretch/>
          </p:blipFill>
          <p:spPr>
            <a:xfrm flipH="1">
              <a:off x="3362400" y="33577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9" descr="MCj04244800000[1]"/>
          <p:cNvPicPr/>
          <p:nvPr/>
        </p:nvPicPr>
        <p:blipFill>
          <a:blip r:embed="rId39"/>
          <a:stretch/>
        </p:blipFill>
        <p:spPr>
          <a:xfrm>
            <a:off x="1000080" y="3786120"/>
            <a:ext cx="817560" cy="860400"/>
          </a:xfrm>
          <a:prstGeom prst="rect">
            <a:avLst/>
          </a:prstGeom>
          <a:ln w="0">
            <a:noFill/>
          </a:ln>
        </p:spPr>
      </p:pic>
      <p:sp>
        <p:nvSpPr>
          <p:cNvPr id="383" name="Isosceles Triangle 54"/>
          <p:cNvSpPr/>
          <p:nvPr/>
        </p:nvSpPr>
        <p:spPr>
          <a:xfrm rot="850800">
            <a:off x="3035160" y="3262320"/>
            <a:ext cx="430200" cy="333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8"/>
          <p:cNvGrpSpPr/>
          <p:nvPr/>
        </p:nvGrpSpPr>
        <p:grpSpPr>
          <a:xfrm>
            <a:off x="1000080" y="3643200"/>
            <a:ext cx="1172880" cy="1006560"/>
            <a:chOff x="1000080" y="3643200"/>
            <a:chExt cx="1172880" cy="1006560"/>
          </a:xfrm>
        </p:grpSpPr>
        <p:pic>
          <p:nvPicPr>
            <p:cNvPr id="385" name="Picture 59" descr="MCj04238600000[1]"/>
            <p:cNvPicPr/>
            <p:nvPr/>
          </p:nvPicPr>
          <p:blipFill>
            <a:blip r:embed="rId40"/>
            <a:stretch/>
          </p:blipFill>
          <p:spPr>
            <a:xfrm>
              <a:off x="1000080" y="371484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0" descr="MCj04231690000[1]"/>
            <p:cNvPicPr/>
            <p:nvPr/>
          </p:nvPicPr>
          <p:blipFill>
            <a:blip r:embed="rId41"/>
            <a:stretch/>
          </p:blipFill>
          <p:spPr>
            <a:xfrm flipH="1">
              <a:off x="1792080" y="3930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1" descr="MCj04231690000[1]"/>
            <p:cNvPicPr/>
            <p:nvPr/>
          </p:nvPicPr>
          <p:blipFill>
            <a:blip r:embed="rId42"/>
            <a:stretch/>
          </p:blipFill>
          <p:spPr>
            <a:xfrm flipH="1">
              <a:off x="1647720" y="364320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Isosceles Triangle 68"/>
          <p:cNvSpPr/>
          <p:nvPr/>
        </p:nvSpPr>
        <p:spPr>
          <a:xfrm rot="20676600">
            <a:off x="1036800" y="3490920"/>
            <a:ext cx="509400" cy="34596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0"/>
          <p:cNvGrpSpPr/>
          <p:nvPr/>
        </p:nvGrpSpPr>
        <p:grpSpPr>
          <a:xfrm>
            <a:off x="2071800" y="4714920"/>
            <a:ext cx="1172880" cy="1006560"/>
            <a:chOff x="2071800" y="4714920"/>
            <a:chExt cx="1172880" cy="1006560"/>
          </a:xfrm>
        </p:grpSpPr>
        <p:pic>
          <p:nvPicPr>
            <p:cNvPr id="390" name="Picture 51" descr="MCj04238600000[1]"/>
            <p:cNvPicPr/>
            <p:nvPr/>
          </p:nvPicPr>
          <p:blipFill>
            <a:blip r:embed="rId43"/>
            <a:stretch/>
          </p:blipFill>
          <p:spPr>
            <a:xfrm>
              <a:off x="2071800" y="478656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2" descr="MCj04231690000[1]"/>
            <p:cNvPicPr/>
            <p:nvPr/>
          </p:nvPicPr>
          <p:blipFill>
            <a:blip r:embed="rId44"/>
            <a:stretch/>
          </p:blipFill>
          <p:spPr>
            <a:xfrm flipH="1">
              <a:off x="2863800" y="50025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3" descr="MCj04231690000[1]"/>
            <p:cNvPicPr/>
            <p:nvPr/>
          </p:nvPicPr>
          <p:blipFill>
            <a:blip r:embed="rId45"/>
            <a:stretch/>
          </p:blipFill>
          <p:spPr>
            <a:xfrm flipH="1">
              <a:off x="2719440" y="471492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Isosceles Triangle 51"/>
          <p:cNvSpPr/>
          <p:nvPr/>
        </p:nvSpPr>
        <p:spPr>
          <a:xfrm rot="1071600">
            <a:off x="2343240" y="457020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7:07Z</dcterms:created>
  <dc:creator> UCDSB</dc:creator>
  <dc:description/>
  <dc:language>en-US</dc:language>
  <cp:lastModifiedBy>Alexandra Dunn</cp:lastModifiedBy>
  <dcterms:modified xsi:type="dcterms:W3CDTF">2010-06-20T01:32:34Z</dcterms:modified>
  <cp:revision>85</cp:revision>
  <dc:subject/>
  <dc:title>Slide 1</dc:title>
</cp:coreProperties>
</file>